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9D5E-7708-40B2-81FA-DDEF6B37D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4282-BCD7-4776-98F9-29E3E5D2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3224-1645-40D1-A9C0-A3AC4BC0B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0819-5C49-415B-BFB1-ABABDAB42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3707-555D-4270-8F55-4D40C80D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0F93-A10E-438A-BD75-BFAD89F0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F731-B4D1-4FEB-BE4F-D6DFB0FD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540A-738B-497B-BD9A-B85C2A9B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111D-1EB8-4BE3-879B-7F046C50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5150-2812-44AB-A383-6E5E50FF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E5A3-1B45-4597-B11F-6D49EA90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63BF-B448-4595-BB21-292CED80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55CF-611A-4CB1-ADA5-A5C4B1055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656400">
            <a:off x="684000" y="8366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lackadder ITC"/>
              </a:rPr>
              <a:t>That  Really  Bugs  Me!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300720" y="18900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ackadder ITC"/>
              </a:rPr>
              <a:t>Pre-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95280" y="907920"/>
            <a:ext cx="1440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rebuchet MS"/>
              </a:rPr>
              <a:t>Ecosystems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rebuchet MS"/>
              <a:ea typeface="Trebuchet MS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627280" y="1413000"/>
            <a:ext cx="936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rebuchet MS"/>
              </a:rPr>
              <a:t>Food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rebuchet MS"/>
              <a:ea typeface="Trebuchet MS"/>
            </a:endParaRPr>
          </a:p>
        </p:txBody>
      </p:sp>
      <p:sp>
        <p:nvSpPr>
          <p:cNvPr id="45" name=""/>
          <p:cNvSpPr txBox="1"/>
          <p:nvPr/>
        </p:nvSpPr>
        <p:spPr>
          <a:xfrm rot="528000">
            <a:off x="4932000" y="1699920"/>
            <a:ext cx="115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rebuchet MS"/>
              </a:rPr>
              <a:t>Species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rebuchet MS"/>
              <a:ea typeface="Trebuchet MS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26920" y="4005360"/>
            <a:ext cx="1368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rebuchet MS"/>
              </a:rPr>
              <a:t>Pollinators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rebuchet MS"/>
              <a:ea typeface="Trebuchet MS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708360" y="5229360"/>
            <a:ext cx="1368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rebuchet MS"/>
              </a:rPr>
              <a:t>Parasites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rebuchet MS"/>
              <a:ea typeface="Trebuchet MS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020000" y="1484280"/>
            <a:ext cx="129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rebuchet MS"/>
              </a:rPr>
              <a:t>Cycles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rebuchet MS"/>
              <a:ea typeface="Trebuchet MS"/>
            </a:endParaRPr>
          </a:p>
        </p:txBody>
      </p:sp>
      <p:sp>
        <p:nvSpPr>
          <p:cNvPr id="49" name=""/>
          <p:cNvSpPr/>
          <p:nvPr/>
        </p:nvSpPr>
        <p:spPr>
          <a:xfrm>
            <a:off x="2268360" y="227664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Insects eat leaves, insect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88000" y="2492280"/>
            <a:ext cx="1692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Caterpil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Cockro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Centipe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Spid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1628640"/>
            <a:ext cx="1800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Rainfo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On t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In a b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Ga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32720" y="2133720"/>
            <a:ext cx="22320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First their was an egg on a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Next day the hungry caterpillar ate so much f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Forth day turned into a butterf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5157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B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2:41:48Z</dcterms:created>
  <dc:creator>phong.trang</dc:creator>
  <dc:description/>
  <dc:language>en-US</dc:language>
  <cp:lastModifiedBy>phong.trang</cp:lastModifiedBy>
  <dcterms:modified xsi:type="dcterms:W3CDTF">2009-03-24T02:40:31Z</dcterms:modified>
  <cp:revision>2</cp:revision>
  <dc:subject/>
  <dc:title>Slide 1</dc:title>
</cp:coreProperties>
</file>